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81F-C537-4B46-8118-2BA0F074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F9A-86E2-4C7E-9484-BA0BF162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86B-3644-4DC2-B32E-0F1F8777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141-7E5B-4EDE-BC5C-57F0442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C46E-FC69-4CFE-B2A8-C9FFC4CC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BE4A-C0C9-43A2-A65B-47FD9FA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9CF-1F6C-4F69-8FEC-F92F757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5BA-1565-4525-93D6-03A8D6E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73A-8C66-4876-A99B-DA270AF4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FE14-C057-403E-BE5B-6A5A07C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28AC-B650-4D10-A6D5-4470BEE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F2C-DC71-4AC8-BA8E-9059D80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107-52EF-4768-A1FD-1CFA003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D7C-B4DB-4452-A600-B6CFA2E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C2E0-E7E5-4D13-B78B-B483072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5BB3-7014-49E4-8880-78A70CD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9CB7-6E8D-499B-A80B-EF2162AE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818-A280-4985-BF7E-4FEBF8A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AFF-377F-4538-8232-F3FCF21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DD6-87CB-4561-BEDE-9CA7530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C47-D627-4D24-BD87-0719A2F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D1F-C199-417E-B00A-B501A1D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0DB-125E-4574-B2E8-1075052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49D-61B8-448D-B5F4-C20FAC83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003F-B2DD-4FE8-BCB8-F764030D9EA2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E2F-5E8D-4932-B343-36F7A3A39783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structional Support/6, 7, 8/iSquad Session 1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File Management for MAC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con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28735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752480"/>
            <a:ext cx="152280" cy="9907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reating New Folder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Why would we want to                      create new folder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y We Create         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New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ze documen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files faster and easi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choose “New Folder” from the File menu in the Finder Window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-33" t="48" r="36" b="1231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428640" y="57780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, type the name of the new folder when the words are highligh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 flipV="1">
            <a:off x="2971800" y="4572000"/>
            <a:ext cx="457200" cy="1371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, drag your documents into the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3886200" y="2895480"/>
            <a:ext cx="1752480" cy="4572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are files and folders organized on a comput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create a system to organize files and folders on our computer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ally, highlight the name of your new fold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 flipH="1">
            <a:off x="3200040" y="2819520"/>
            <a:ext cx="1523880" cy="228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ing, Moving and  Color-Coding Fold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the color you would like to use from the File Menu in the Find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609480" y="228240"/>
            <a:ext cx="457200" cy="6094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90560" y="4083120"/>
            <a:ext cx="16002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you will have a chance to practicing making and naming a new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g a document into the folder once it has been crea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ange the color of the new fol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repara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fore you begin, think about ways that you might want to organize your file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ganizing Fi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8480" t="14427" r="14845" b="28126"/>
          <a:stretch/>
        </p:blipFill>
        <p:spPr>
          <a:xfrm>
            <a:off x="231840" y="1844640"/>
            <a:ext cx="87627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rite down the names of folders you would like to crea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your new fold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g documents into the fold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ange the colors of the folders. Practicing switching between list, column and icon view in the Find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id you organize                         your computer file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already know how to create documents and download files on your computer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 you will learn how to organize your computer so it is easier to find files and informa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the Finder Windo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 a MAC, the “Finder” window is where you can find all of your files, applications and docum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80520" y="5029200"/>
            <a:ext cx="1219320" cy="12952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ganizing your files      with Find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hree ways to view your information within the Finder: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st, column and icon view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72200" y="367668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st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27320" y="1616040"/>
            <a:ext cx="0" cy="12193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lumn 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1828800"/>
            <a:ext cx="304560" cy="99072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8T02:38:27Z</dcterms:modified>
  <cp:revision>12</cp:revision>
  <dc:subject/>
  <dc:title>Workshop Title</dc:title>
</cp:coreProperties>
</file>